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46904"/>
        <c:axId val="69749300"/>
      </c:barChart>
      <c:catAx>
        <c:axId val="13146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49300"/>
        <c:crosses val="autoZero"/>
        <c:auto val="1"/>
        <c:lblAlgn val="ctr"/>
        <c:lblOffset val="100"/>
        <c:noMultiLvlLbl val="0"/>
      </c:catAx>
      <c:valAx>
        <c:axId val="69749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46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29C-238C-42DA-BA20-519CEF82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F4D-08EF-42A7-814A-A9763DE1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A6F-5B59-4DD2-B904-A94F4011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523-B7FD-4A49-A68B-B1DCFC44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33F-2A0F-4640-9965-342DBD52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B29-24AC-44BF-9C39-5D8E5DB1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79E6-1977-4AF9-B894-8654A76D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532-243C-4150-9767-027F7DCD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B23-3A01-4978-8ECB-06D048FB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D18-BBD6-4E7E-B2C5-E9FE8DB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5C7-D9C9-4FDD-8DE0-CDDE489C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A49-F4B4-46B3-AAB2-D7077D1A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38CA8-6BFA-4A82-9D75-42749D7A15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