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05966"/>
        <c:axId val="62473996"/>
      </c:barChart>
      <c:catAx>
        <c:axId val="74205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73996"/>
        <c:crosses val="autoZero"/>
        <c:auto val="1"/>
        <c:lblAlgn val="ctr"/>
        <c:lblOffset val="100"/>
        <c:noMultiLvlLbl val="0"/>
      </c:catAx>
      <c:valAx>
        <c:axId val="62473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05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495-AEE5-4FDD-8AF2-025A7BB5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B53-3960-4F75-8FA6-6334BE69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F9F9-43E9-43E6-9A0A-00543E3F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D94-5E56-4DEB-8FA1-EE8BFA19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03F-79E6-46FB-A6FA-55AEFC33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8CE-6D00-4E24-8BBF-63C0FD9C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171-DDFE-4972-A3ED-1045802A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FDD-8E1D-47BA-B164-606E11F6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A48-2D9C-44B0-8B53-D16C9D38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539-7F15-4CED-BFFC-8EB5BC5D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9AB2-EDFC-4A81-8D6F-C1328E66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7A1-A04B-4C9E-AE26-91DE7DB6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6CFB4-B908-4983-9C85-501F1D3EAD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