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13110"/>
        <c:axId val="93128570"/>
      </c:barChart>
      <c:catAx>
        <c:axId val="33013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28570"/>
        <c:crosses val="autoZero"/>
        <c:auto val="1"/>
        <c:lblAlgn val="ctr"/>
        <c:lblOffset val="100"/>
        <c:noMultiLvlLbl val="0"/>
      </c:catAx>
      <c:valAx>
        <c:axId val="93128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13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949-3829-4BD3-81C8-FC272483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568-D70C-4714-A416-90D8C284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576-7BFC-4E47-87AF-66CAFF5D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882-3122-4E87-9B80-01F9EBB2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586-6F84-4968-912C-2A2467ED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AA1-5FEA-452D-B6FE-BB086AAF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9FA-6AEA-4DAE-8881-2E7C6644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806-1755-4B0F-9C00-4E8F3477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3B2-27DE-4117-B440-84A88E45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A4C-C6D9-467C-959E-C9EA0A93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633-90FF-4621-82EC-09FE1D6C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B43-36AD-4591-B295-5DE64B68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C949B-58EF-42EC-9D63-2B79FF0799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