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66692"/>
        <c:axId val="44670676"/>
      </c:barChart>
      <c:catAx>
        <c:axId val="71966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70676"/>
        <c:crosses val="autoZero"/>
        <c:auto val="1"/>
        <c:lblAlgn val="ctr"/>
        <c:lblOffset val="100"/>
        <c:noMultiLvlLbl val="0"/>
      </c:catAx>
      <c:valAx>
        <c:axId val="44670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66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92C-3C6E-4E54-AB4B-1AFAFCAA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AEA-DECA-4D6C-A998-5951E07C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320-496D-49D4-8715-730D8C50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FEA-112B-4683-99B8-CF489DA2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5BA-9629-44C8-8FAF-FC84363F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029-E27B-4E55-8872-FC5B7FCF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C33-1E0B-4BFB-B48E-25EEFC86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6C5-BEA7-418D-8CE0-72518E56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60B-26DF-43B6-9380-07872497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52C-2BC7-4803-AC11-3A5739F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2AB-54DC-429C-B3FA-BDC667C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D57-8E03-485F-AE7E-39D7C6E2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5C7AB-B8DA-4EB6-8087-826BA10C0B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