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49896"/>
        <c:axId val="68414960"/>
      </c:barChart>
      <c:catAx>
        <c:axId val="76549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14960"/>
        <c:crosses val="autoZero"/>
        <c:auto val="1"/>
        <c:lblAlgn val="ctr"/>
        <c:lblOffset val="100"/>
        <c:noMultiLvlLbl val="0"/>
      </c:catAx>
      <c:valAx>
        <c:axId val="68414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49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D694-6904-47D4-AF2E-095BA1E9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DD9-46DB-43A2-8EC6-6A4CDF34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790-385B-47E2-9F00-3ACC0549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99B7-7B1C-412C-BFB3-D3B2BE0E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E8D5-BAD9-4BA2-A577-4B0A1D5F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42AB-9758-4B32-846E-85018278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F2C9-CD1E-4CE5-9EF9-B92279E2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DD6-40E3-43B4-A854-1438AF75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926-3943-4FFB-92A0-6083D978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725-8A8F-4884-9262-D16896FF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309-4CD0-4876-913E-8726F341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A89-83D8-4EA3-86F5-FA304A9C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70F2E-0637-4BC9-B8AC-089A852695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