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917580"/>
        <c:axId val="46694706"/>
      </c:barChart>
      <c:catAx>
        <c:axId val="119175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694706"/>
        <c:crosses val="autoZero"/>
        <c:auto val="1"/>
        <c:lblAlgn val="ctr"/>
        <c:lblOffset val="100"/>
        <c:noMultiLvlLbl val="0"/>
      </c:catAx>
      <c:valAx>
        <c:axId val="466947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9175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DD24-9A61-4E82-BE01-DC0058835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57A3-C6BA-442F-A468-828994A0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2943-CD64-420A-AD05-4FEDD7558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9D95-D165-4107-B34A-B1C9E7960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4A54-D169-447D-8B24-5C2BAF61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01CA-CF1F-4C54-86CA-CD35031D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5828-CC71-4252-8FF0-08FBFF05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DBE6-BDF0-433A-BF2A-58BDBE32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2812-45C6-4EF4-8384-8D384166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04EB-DEBA-43FF-820F-04148EBD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F035-A778-4F33-8C0A-C2EA3F2E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28A3-8EB0-4B98-AD2A-6452290E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94C09C-21B8-4824-93E1-621675AD4A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