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22487"/>
        <c:axId val="19598836"/>
      </c:barChart>
      <c:catAx>
        <c:axId val="38922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98836"/>
        <c:crosses val="autoZero"/>
        <c:auto val="1"/>
        <c:lblAlgn val="ctr"/>
        <c:lblOffset val="100"/>
        <c:noMultiLvlLbl val="0"/>
      </c:catAx>
      <c:valAx>
        <c:axId val="19598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22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429-07C0-46A5-8725-A4234EEB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1DD-51C6-474B-B7F4-F65228B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29B-EBA6-42AE-8A80-7AF0FC39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DED-5354-424E-B89F-AA91381B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4CD-67A6-4BD8-988C-A9769F9A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92B-D30A-4309-B677-E2CE7617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199-FDF3-4104-849D-AEB47421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A98-2805-4415-85BC-EB366892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E4C-EAAE-4908-A78A-D25C0E4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343-25AB-49AF-8329-4053D9F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5B8-58A7-4A95-946C-9B9AE110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1DE-CCF9-4C18-908F-BA7BD82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F8004-2191-4C8F-A578-7BA9883A8F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