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69006"/>
        <c:axId val="58262927"/>
      </c:barChart>
      <c:catAx>
        <c:axId val="53069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62927"/>
        <c:crosses val="autoZero"/>
        <c:auto val="1"/>
        <c:lblAlgn val="ctr"/>
        <c:lblOffset val="100"/>
        <c:noMultiLvlLbl val="0"/>
      </c:catAx>
      <c:valAx>
        <c:axId val="58262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69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CB3-FF89-4034-894F-FCBB4AAF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380-A043-4748-9EFA-CDDF7923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95F-7DC0-40AE-8E0D-4260672D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8F3-09D2-4A3B-A3E5-DB9882BF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119-12EE-4229-9797-85840499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E47-63C8-4A63-B960-719086FC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C53-8DE8-4970-BF83-E1659339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22F-E170-41F6-9140-30F46842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4C2-6AEA-4025-BCEC-6C42F7A2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2E8-26A7-4689-9FC4-602E72E9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19E-B746-4FE5-8F8A-BC19F2E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5B1-DFFD-49EA-B4B0-731D12FB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FEA36-D522-47C0-B0FB-1614962E53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