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3948"/>
        <c:axId val="35023173"/>
      </c:barChart>
      <c:catAx>
        <c:axId val="5733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23173"/>
        <c:crosses val="autoZero"/>
        <c:auto val="1"/>
        <c:lblAlgn val="ctr"/>
        <c:lblOffset val="100"/>
        <c:noMultiLvlLbl val="0"/>
      </c:catAx>
      <c:valAx>
        <c:axId val="35023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3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819-0EF4-4D5E-853A-57084B23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135-D314-4DED-A3E8-94253D9E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67B-7748-4304-9153-E242B87D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734-7467-4C39-9558-B13B2253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004-29A3-4F0D-9408-80068DD6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969-EAA2-4289-8FCD-1248496B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5BF-E4B7-430B-AA04-B0536E8D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1C3-A9F7-445B-A746-71AB4770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2EF-B2E0-4C47-A5B2-DD205465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35A-E184-452F-AC99-B85DA492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04A-C801-410C-95A5-067110E8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52B-8F35-4D9F-8E41-D18F9876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2B152-5967-45E6-AA62-BFE3D3E60D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