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40109"/>
        <c:axId val="65962418"/>
      </c:barChart>
      <c:catAx>
        <c:axId val="35640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2418"/>
        <c:crosses val="autoZero"/>
        <c:auto val="1"/>
        <c:lblAlgn val="ctr"/>
        <c:lblOffset val="100"/>
        <c:noMultiLvlLbl val="0"/>
      </c:catAx>
      <c:valAx>
        <c:axId val="65962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0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317-1E16-4677-9580-0EEA4D73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560-61E9-4E93-8631-6EFAFE84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17F-1163-4B37-8CE1-F4A89DBD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157-2578-4F94-ACC9-E1693B9B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5AC-498B-4F10-AEC5-ED49927F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B9D-A3C3-4AD1-B38F-31A3F3CC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0EE-91C5-4F20-86EB-F21226A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03B-F93B-44FA-9EC7-3A345F96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C86-0332-4C8D-B922-8003A29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063-736E-47C6-A20D-F626D34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C51-B7E6-4FF8-94C9-D368FB1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380-C846-4864-8458-7BB72F7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660D0-158D-4A06-BD9C-97CF9C081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