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38805"/>
        <c:axId val="38289703"/>
      </c:barChart>
      <c:catAx>
        <c:axId val="95538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89703"/>
        <c:crosses val="autoZero"/>
        <c:auto val="1"/>
        <c:lblAlgn val="ctr"/>
        <c:lblOffset val="100"/>
        <c:noMultiLvlLbl val="0"/>
      </c:catAx>
      <c:valAx>
        <c:axId val="38289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38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5EA-32C3-4C6B-826B-D82A255A3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9C5-4E8F-4C05-9F0B-14AE3207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3C81-7C6D-4377-B018-169B1583F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E8D2-DB14-46AD-8EA6-750B3EDB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B0A-C0B8-4CB7-88E7-3A1760CE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F86-8794-4650-B7CC-723D0E5E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2ADA-F678-4766-AE9B-EEB3159B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9A9-C413-4379-B4F7-CFD4A92B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738-30A3-4F10-BD60-E58F831A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ED6-0EAD-4A05-B1D6-049F6F18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E8F-DD36-4CB4-A94D-E2C0545A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213-EBC8-40B5-94B2-B9AD96D5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E2A00-50E4-4ED8-8935-42339A7AF1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